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1A4-40C9-4DBC-80B3-ED14E833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AC4-62A2-4365-952A-E8586B4A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0FD-7F8A-4798-83DB-0214EA96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A58-BB7A-4D21-B51A-B302CF82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D0E-2033-4773-8C22-F2BE038B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DBE-C53A-45E2-9737-4AFA7EF7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946-8333-4D39-8EA5-18FAF8AF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CAA-C85A-4B44-880D-2342B069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596-D407-45A0-A542-73DC1840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97D-1435-4973-A61B-B6B99FBA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5B3-96B0-4B29-ADE1-98137F5F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C89-8A6A-4331-82B1-B9077337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F5C6-8822-4D26-9A48-5FF6C2F85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0"/>
            <a:ext cx="3505320" cy="64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)  Remove mid-seat from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)  Unbolt tracks from seat – see illustrations #1 &amp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)  Remove OEM base from tracks – see illustration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)  Reassemble seat tracks to 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)  Trim plastic side panel – see illustrations #5 &amp;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)  Bolt OEM seat to Easy Reach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)  Set unit in vehicle – see illustration #7 for front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)  Drill and bolt rear flange of unit using at least 3 – 3/8 grade 8 bolt and reinforcing washers undern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733920"/>
            <a:ext cx="4800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:  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4:42:39Z</dcterms:created>
  <dc:creator>Marci</dc:creator>
  <dc:description/>
  <dc:language>en-US</dc:language>
  <cp:lastModifiedBy>Marci</cp:lastModifiedBy>
  <dcterms:modified xsi:type="dcterms:W3CDTF">2005-08-03T21:06:48Z</dcterms:modified>
  <cp:revision>2</cp:revision>
  <dc:subject/>
  <dc:title>Slide 1</dc:title>
</cp:coreProperties>
</file>