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861-AC39-4ECE-83AD-F9326710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636-BC2C-4CCC-A3BC-59B19718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E54-BC8B-414A-B726-FA171C0B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861-B183-436F-8283-E33C14B6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18C-A469-44B9-B21D-D5CDDB3C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B24-6667-4EEB-AD64-E193A7A5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BE8-A9E4-4843-87C2-DAE82447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093-1C38-446C-AF55-379B3D19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CC0-95EE-4172-9DF3-036ECC03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691-41A0-41DB-B836-D106E955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BE2-4558-4961-AD47-91294E3A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7E5-C9B9-4B3D-A5F3-D37B5429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8781-CAE1-414A-8296-3DEDE4135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2280"/>
            <a:ext cx="533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819520"/>
            <a:ext cx="358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cover or trim what is necessary to fit seat to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348624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34592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6324480"/>
            <a:ext cx="327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m to fit seat to frame or remove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48320" y="152280"/>
            <a:ext cx="609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24280" y="35053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3:50:47Z</dcterms:created>
  <dc:creator>Marci</dc:creator>
  <dc:description/>
  <dc:language>en-US</dc:language>
  <cp:lastModifiedBy>Marci</cp:lastModifiedBy>
  <dcterms:modified xsi:type="dcterms:W3CDTF">2005-08-03T14:40:16Z</dcterms:modified>
  <cp:revision>2</cp:revision>
  <dc:subject/>
  <dc:title>Slide 1</dc:title>
</cp:coreProperties>
</file>