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B17-2C0C-4BAC-80DB-00B15C13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A11-DEEF-43BA-9067-D1DAE065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288-0383-463C-89B9-474C058B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B83-545F-482A-B72E-FEE8B25A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D26-E365-460F-A427-CFEBE7F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0B7-938A-496D-AF43-3151BBED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E20-07B3-456D-A0AE-456F5227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878-CADE-4314-858D-09049AC2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378-EF36-42BE-B20B-EB69E7F6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1E3-9A47-4F9E-B552-AB8C55CB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215-42A5-4E41-AA61-4E2C2ED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9AA-418C-45B2-9CCF-A7124A9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ECF-BB76-44CB-BB18-CF0F10B0B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304920"/>
            <a:ext cx="1447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523880"/>
            <a:ext cx="45720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219320"/>
            <a:ext cx="45720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066680"/>
            <a:ext cx="45720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43000" y="609480"/>
            <a:ext cx="380880" cy="8384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533520"/>
            <a:ext cx="533160" cy="6858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609480"/>
            <a:ext cx="990720" cy="533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380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4038480" cy="30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50532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6324480"/>
            <a:ext cx="1447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105520"/>
            <a:ext cx="457200" cy="38088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876920"/>
            <a:ext cx="45720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5105520"/>
            <a:ext cx="53352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447920" y="5486040"/>
            <a:ext cx="304560" cy="762120"/>
          </a:xfrm>
          <a:prstGeom prst="line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904760" y="5334120"/>
            <a:ext cx="22860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43200" y="5562360"/>
            <a:ext cx="914400" cy="6094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00600" y="2286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1371600"/>
            <a:ext cx="533160" cy="53352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1523880"/>
            <a:ext cx="45720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523880"/>
            <a:ext cx="38124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1600200"/>
            <a:ext cx="380880" cy="38088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80880"/>
            <a:ext cx="1447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790960" y="762120"/>
            <a:ext cx="533160" cy="5331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685800"/>
            <a:ext cx="0" cy="7621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762120"/>
            <a:ext cx="228600" cy="7617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762120"/>
            <a:ext cx="457200" cy="7617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00600" y="35053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48520" y="6324480"/>
            <a:ext cx="1447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97400"/>
            <a:ext cx="380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5181480"/>
            <a:ext cx="60948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5105520"/>
            <a:ext cx="533520" cy="4572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867280" y="5638680"/>
            <a:ext cx="457200" cy="6098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81680" y="5715000"/>
            <a:ext cx="0" cy="533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543800" y="5638680"/>
            <a:ext cx="685800" cy="533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i</cp:lastModifiedBy>
  <dcterms:modified xsi:type="dcterms:W3CDTF">2005-08-03T13:39:27Z</dcterms:modified>
  <cp:revision>1</cp:revision>
  <dc:subject/>
  <dc:title>PowerPoint Presentation</dc:title>
</cp:coreProperties>
</file>